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61DD-7EED-4C2A-A51E-38B3ABDE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5B57-DF24-44E9-B849-1063EA00C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A13E-9B02-4BCD-BCB7-F38DEEA67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5099-28D2-4F50-B662-3251FCC4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1B1-B5D8-43AE-BD2E-2196B96EB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DBBA-4281-4520-B451-B8F786C2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F1C-AC4F-422C-81EF-A2E41AB3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DCE4-FC5B-496F-A272-9DCD1EF2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16A3-ABFA-4205-915F-510FB02A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157-C07A-481F-A4A4-316CB080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CAC-6526-4E3F-A6F4-CD8B75C3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851-E45D-46D8-AABF-AA05F6D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069-63C8-482E-9873-F3BCF21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A5D-E508-4192-9E5B-0F6B3576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433-51D0-4B41-A04A-6B58B5CB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A19-2F4F-4A88-936C-C8D48EBC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426-BC86-4E07-BC60-A8C8BE27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D6A-17D6-4BBC-9607-EC352EF5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739-234E-4DFF-A1AA-F9411D9D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EC7-C48F-423A-B4D8-6B7D5D4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BFD-41E5-43B1-9E9E-D994F42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0F-FE52-4F9D-8CBA-8DEB574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343-4D14-4310-A28D-ADAFDB6B1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hyperlink" Target="http://www.camstudio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49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5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58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58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6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22860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PONSORED BY</a:t>
            </a:r>
            <a:br>
              <a:rPr sz="3200"/>
            </a:b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00200" y="490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MH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14300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</a:rPr>
              <a:t>A SPOKEN 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6858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85800" y="38480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National Mission on Education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6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7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38080" y="3376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Animation and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7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 screen-record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records all activities that you see on your screen in AVI format and allows you to play them back later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14400" y="216216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You can use CamStudio t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demonstrate features of a new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udio-video tutorials for schools /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VI video movies used in user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how how to perform 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onvert AVI files to Flash (SWF)  files and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other 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8"/>
          <p:cNvGrpSpPr/>
          <p:nvPr/>
        </p:nvGrpSpPr>
        <p:grpSpPr>
          <a:xfrm>
            <a:off x="957240" y="5187960"/>
            <a:ext cx="7388280" cy="1146240"/>
            <a:chOff x="957240" y="5187960"/>
            <a:chExt cx="7388280" cy="1146240"/>
          </a:xfrm>
        </p:grpSpPr>
        <p:pic>
          <p:nvPicPr>
            <p:cNvPr id="96" name="TextBox 8" descr=""/>
            <p:cNvPicPr/>
            <p:nvPr/>
          </p:nvPicPr>
          <p:blipFill>
            <a:blip r:embed="rId4"/>
            <a:stretch/>
          </p:blipFill>
          <p:spPr>
            <a:xfrm>
              <a:off x="957240" y="5187960"/>
              <a:ext cx="7388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95280" y="548172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Calibri"/>
                </a:rPr>
                <a:t>The uses of this little known software are limitl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0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838080" y="2514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can be used with Microsoft Windows 95, 98, Me, NT 4.0, 2000 or XP vers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The minimum requirements are as follow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00 MHz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 MB of hard-disk space for program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0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n open source software and can be downloaded free of cost from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Go to th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camstudi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25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27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National Mission on Education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hrough 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6002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4575"/>
                </a:solidFill>
                <a:latin typeface="Arial"/>
              </a:rPr>
              <a:t>An MHRD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29:00Z</dcterms:modified>
  <cp:revision>28</cp:revision>
  <dc:subject/>
  <dc:title>How to use CamStudio</dc:title>
</cp:coreProperties>
</file>